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DD0-6A9F-48A5-9BA2-1CC40895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C97-1BF2-4C95-A75E-1F16C803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70C-280B-459D-AABF-8A022D45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5F6-2697-4611-A7FC-44E826E5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DE5-7154-431F-9B83-634D2088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6CD-8452-43FC-9455-AAA2E264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936-884D-4B53-B7AB-9DA15E19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E46-EB80-4657-AD15-EB58094E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485-8C50-4F75-A316-349599FD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E0C-D830-47EF-9EAB-8DDAD912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C12-1CEF-4E08-9C8A-913183C0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868-FFED-40F9-97BA-E0026D1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859E-D1A4-49A0-A247-CA372DC4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: Representing Mock Patient Data in HL7 Standa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en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CDA For Clinica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60400" y="1450800"/>
          <a:ext cx="5623200" cy="5407200"/>
        </p:xfrm>
        <a:graphic>
          <a:graphicData uri="http://schemas.openxmlformats.org/drawingml/2006/table">
            <a:tbl>
              <a:tblPr/>
              <a:tblGrid>
                <a:gridCol w="331920"/>
                <a:gridCol w="1336680"/>
                <a:gridCol w="1295280"/>
                <a:gridCol w="121932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men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:Proper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din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wl:Restric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M 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s:doma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s:rang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ctureRo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od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ive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tiality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y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rd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rdTarge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Control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II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AD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 in CDA Document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On 19 April, 54-year-old man with diabetes was referred to the Hypertension Clinic in Jichi Medical School Hospital with symptoms of dizziness and orthostatic intole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header -  where you can find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9120" y="3247560"/>
            <a:ext cx="75661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linicalDocument xmlns="urn:hl7-org:v3" xmlns:mif="urn:hl7-org:v3/mif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ns:xsi="http://www.w3.org/2001/XMLSchema-instance" xsi:schemaLocation="urn:hl7-org:v3 CDA.xs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ypeId root="2.16.840.1.113883.1.3" extension="POCD_HD000040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 = "c266" root="2.16.840.1.113883.3933"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"11488-4" codeSystem="2.16.840.1.113883.6.1" displayName=“ReferNot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ypertension Clinica in JiChi Medical School Hospital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ffectiveTime value=“200704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nfidentialityCode code="N" codeSystem="2.16.840.1.113883.5.25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tId extension="BB35" root="2.16.840.1.113883.3.93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versionNumber value="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legalAuthenticato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utho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ustodia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where to find specific patient information: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560" y="2133360"/>
            <a:ext cx="6581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cordTarg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atientRo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="12345" root="2.16.840.1.113883.3.933"/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atient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given&gt;Henry&lt;/given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amily&gt;Levin&lt;/famil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uffix&gt;the 7th&lt;/suffix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na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ministrativeGenderCode code="M" codeSystem="2.16.840.1.113883.5.1"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irthTime value="19540924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ati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roviderOrganiz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="M345" root="2.16.840.1.113883.3.933"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roviderOrganiz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atientRo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recordTarg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patient present medical condition: de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0600" y="2057040"/>
            <a:ext cx="3978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-5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1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LOINC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Present Medical Condition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has &lt;content ID=“d1"&gt;Diebetes&lt;/cont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bservation classCode="OBS" moodCode="EV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567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96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SNOMED C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Name=“Diebetes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ference value="#d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co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tatusCode code="completed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bserv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patient past medical history: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78080" y="1966680"/>
            <a:ext cx="4597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-5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1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LOINC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Present Medical History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history of &lt;content ID=“d2"&gt;Hypertension&lt;/cont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bservation classCode="OBS" moodCode="EV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567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96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SNOMED C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Name=“Hypertensi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ference value="#d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co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tatusCode code="completed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Time time=“20050629”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bserv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ng RIM V3 in 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47293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2781360" cy="558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81240" y="2787480"/>
            <a:ext cx="40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lass hierarchy is constru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ACT Type cod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ity, Participation,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81240" y="278748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lass hierarchies are constru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respective type code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Link and ActRelationship As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9528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Vocabulary And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2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Data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290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CDA For Clinica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 are used as schemas for recording clinical events i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unique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yp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Content (such as tables, list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XML Content (such as sounds, video clip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lation of XDS Schema To OWL Constr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14680" y="1967040"/>
          <a:ext cx="5715000" cy="2925720"/>
        </p:xfrm>
        <a:graphic>
          <a:graphicData uri="http://schemas.openxmlformats.org/drawingml/2006/table">
            <a:tbl>
              <a:tblPr/>
              <a:tblGrid>
                <a:gridCol w="2286000"/>
                <a:gridCol w="1714680"/>
                <a:gridCol w="17143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xs:schema|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rgetNamespac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RDF|xml:b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 the namespa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xs:schema|xmln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RDF|xml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 the default namespa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complexType|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complexType//element or xs:element|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DatatypePropert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ObjectProperty owl:Restri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OnPrope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properties and restrictions of the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attrib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Datatype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datatype proper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element@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s: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range of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maxOccur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minOcc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maxCardinalit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minCardin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number of class’ relationshi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300680" y="533412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not alll xds constructs used in CDA schema can be 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WL constructs, such as “optional” and “inclu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3:22Z</dcterms:created>
  <dc:creator>agfa</dc:creator>
  <dc:description/>
  <dc:language>en-US</dc:language>
  <cp:lastModifiedBy>agfa</cp:lastModifiedBy>
  <dcterms:modified xsi:type="dcterms:W3CDTF">2008-02-12T15:26:24Z</dcterms:modified>
  <cp:revision>5</cp:revision>
  <dc:subject/>
  <dc:title>COI: Representing Mock Patient Data in HL7 Standards An example</dc:title>
</cp:coreProperties>
</file>